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FAAFCD-1350-4DD4-8120-F98F1E67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9F3CB0-F259-4E19-B0C4-B1F06101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A280FC-FD5C-4FE2-BCC2-0388707A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B1A2CB-046D-46A6-AEB0-243B0528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B4100D-2D4B-425D-AECD-E545EA71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16B85F-E00E-40BE-A02E-0CCA8AD7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C72124-BCCC-4EE0-98FF-5DAEF313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D9A6E8-0757-47B7-959B-1CD928BA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FE09D4-ADF5-4159-BCA3-54F517C34E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03162-192B-4522-98C9-BB8B655FFE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E45C4-6D9A-42D9-835C-E8FDE8E3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DD256-243D-4A81-941C-5A0950A1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03CD9-924C-4205-9A79-BEE88E16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29129-6E3E-4F32-B0EE-E60599C9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0BBB7-6A36-4127-A714-C9784424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ECF5C-E855-4918-A200-A01F8F83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FB727-6F75-4119-A114-6E3069A8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5D9AD-1846-40E6-AC82-F9D3CB1B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24BD7-1B2A-49C5-861B-22F45E58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C89F1-EBD2-4316-A302-5522CCD4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1127E-892F-4075-B73E-95DFE4486A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DB194C-B317-4E68-8699-77B1AE0EC4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A62E4D-8564-43E1-9B00-C7ED1FA7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9A6972-771F-42FC-87BE-3AF3F087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0C7036-FA4C-446E-BF08-4656D65E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958EDA-7911-40C2-9A38-5C56AC98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ECA9FB-042D-4468-A69A-3F06250A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06DAFB-7120-4695-8BEC-CC92A4CE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6762D9-76E4-4955-85F3-975A75A4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DE8220-CCF6-47D8-8464-FCADCCED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DECFB-362B-4F7D-95EC-15356E07AF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718733-00A3-449F-A33C-D1F1555F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26AB0D-7C6F-4DCB-A4F1-B9C540FC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7AD974-9B3F-4541-8E9E-71863E1304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2BC6ED-7BE0-44E2-B952-E6886385CE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FCEE34-900C-49E8-BBEF-B5DCA610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D8730B-F244-4E13-9856-16E28D9B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4527E7-253E-4B47-8ACB-283F4BF7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20FCF0-8B34-4EEC-ACE9-E4744308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2FB360-CF8E-4B3F-8103-D6800E33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F747B4-A018-49BF-B5E0-80540415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A8BD9-4C1F-4539-85A4-2D1F7F39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37C0B6-8783-4BB6-840F-74983A74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146348-5CD9-4CFC-B792-77B9CD08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519496-FFC7-4BC2-8E02-6EC59292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A15879-8ADA-4879-9FEE-649D2193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1242C3-40A6-4F45-8CA7-0DA267DDDB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2787A-21DB-4CBD-9C98-5EC440CF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87619-E53B-4B28-98CF-8227642D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637F3-D8CC-495C-A2B8-D31AC857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74BB0-A8DE-4E16-A371-6E7B1AD8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F9AA1-E1A9-417E-B791-5DAE0C01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B35DA-16E2-4C93-8CEF-728B8FE5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81C29-67BC-4C83-9F62-C8AB7D91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D891E-DDFF-4F65-BBA7-F7D15ED0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351F1-8319-48D2-AF4A-346EB174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020C4-EE03-47ED-8C39-C725D1EDC9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C4271-1B1B-470F-8F50-A36FB51CA0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A3F15-F906-4FFB-A083-8465A71A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552FD-C198-4228-B3AD-1D5E395F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95330-A1B4-412A-BBEB-DF560A59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28A58-9AC9-4DB3-877B-DB93FDB1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E3B7D-684E-457F-BA4E-078C5553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85567-AE1B-4E8F-B1A9-EE136192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28BF1-B305-429C-BC17-18E0ADDF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CC503-AB18-4F06-A649-0F9EFC1F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7C61F-A68E-4D0A-852E-0E0887A7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D3178-316A-4415-9F1E-4D83A80A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1EBDB-3E84-48DB-BCC3-BD55EFDD9C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30FA-A67A-4215-98F0-295C01F2CA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DF8C-2621-46EA-92FE-732F89FD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617E-4F9C-411D-A2BB-63D310EC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55E9-99DF-4FE7-BA29-6F7D3700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2288-1D06-4197-B333-472279F9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A07A-E0D1-442B-9FFC-6CC9E25B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DFE1-C198-41EA-86B4-8B33F4FF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B011-DD27-4CC8-85BF-F3A9DEA3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E3D3-ADCF-4DD9-8CB0-2BCC11A6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2260-3A39-4455-A4A5-2DAD22BF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6DA9-3D76-4DCA-86AF-D85C7EF9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1D3E-65E1-45F9-B230-AB141063EF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C18770-DDC7-4A63-AFC0-720E9A3E9E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22CDD-630D-4764-A1A9-324D419C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33A771-A569-4EFC-9525-7C0FA8A7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87E4C-6BD1-45AA-8C3C-05CD6DB0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AB5A1C-8E43-40ED-86ED-3186F21F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953C4-31BD-464B-997A-578D3312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C8BB9-7269-4871-98B9-97AED67D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DFFB9B-FDC2-4964-8E6C-221B4A17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6D5A88-4A95-4D60-BCA1-691907B0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98E553-4790-4A18-8C27-EA2D2A37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01ED3F-AA3D-4B09-856E-97D29E43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191D3D-C91A-4475-8F53-245F9A3AD6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D2917A-F719-4485-B9F4-C6D3403C3D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5ED0A2-2C64-46A8-BA5A-EF480DF5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CA0B02-BA38-4408-99BE-64D01940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2D6E8D-1159-49A9-86DC-A2EEDCB7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B1769B-C14A-4BEB-8680-346F9CA3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CF3EA8-A0F0-46EB-8F0D-B256FC59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75DB31-C871-4F78-BCE4-73A72138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A09449-96E1-4A64-AD5B-BD479430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D2E07F-3BA1-4FE5-BA5B-0B86EE74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113B93-1533-4CC4-B43D-6EF0DBE1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7F042A-7C7E-40BE-853D-4990E91A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A530B4-5EE5-4413-A433-3EF2B2F7A3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F7285-9EC8-4BC6-B38B-B0D142CF4D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6AE81-0178-41EC-92C3-8C0BCBC8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3C374-8327-4A2B-9136-B7FFCDE2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7DCE2-86B6-49A9-8042-0656644C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9B891-E659-4CB8-8D51-DB56FC084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F70D4-D8A5-428B-A6F5-633797D9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24FBF-D8E6-46C6-805E-E6BFADB3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8937C-9A6D-4EC4-9B46-48880413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A054B-03BA-47D4-9948-B83395A3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5C0DF-C7E7-45FF-99E1-5A5A9FC4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08178-7B3C-49C0-9743-6C72F58A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E7640-CF2A-4D74-AFC5-5D56E35672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D9024C-5048-4E5B-8B28-26C61CB33D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DB4CED-96B0-4108-92BA-728224D5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10B120-513E-4571-ADFD-3185FC06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78A544-9F9E-4A91-8921-8FF572F5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C4BF37-5EFC-4789-9076-EB17AB0E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FCE8A0-F130-4319-890D-BA5148FF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1F27A6-38A0-4121-AADC-924E9506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18DAF3-7536-4731-834A-F65C7F2A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10FEE6-4B00-404E-BD09-8513E24F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E11F74-4532-4704-AF3D-724E4168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4760AA-C496-48B7-BD73-7DAE23D7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850CF8-2FAA-4B08-9420-C23A90159F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474963-9500-46AC-A4AD-AF22656746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30B04E-CCAB-4F3D-A078-069D4C1F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30C6E0-4932-4413-A2BC-A83C7569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dt" idx="17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6275E0A-B89A-45D6-B6E9-3FC543BFA97D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602C7D9-3EA5-4999-92F8-09D96740441C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dt" idx="21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CF69DAC-854E-4181-A154-C9F02C5F66DE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B6FB2B5-2DFF-4E92-BC66-F7154D9C33AF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3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C11F51D-F781-4E91-8749-FA30845110BC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dt" idx="5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9CEAC98-E9F2-465A-BCED-5E9D709B6A23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8CAE7D0-B439-44FF-9277-CE0D11DE8149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dt" idx="9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7637F28-3690-4174-BCEE-D9517AE32F52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dt" idx="11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F31455B-68FB-4CE3-B78E-565272C561D7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47CDCEE-0691-4D83-ACB9-16951CE18DF6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dt" idx="15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2E4E8C2-CE80-4149-AB54-F39253F0CA22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ricardo.andrade@ana.gov.br" TargetMode="External"/><Relationship Id="rId2" Type="http://schemas.openxmlformats.org/officeDocument/2006/relationships/hyperlink" Target="mailto:cesar.pimentel@ana.gov.br" TargetMode="External"/><Relationship Id="rId3" Type="http://schemas.openxmlformats.org/officeDocument/2006/relationships/hyperlink" Target="mailto:rodrigo.carvalho@mma.gov.br" TargetMode="External"/><Relationship Id="rId4" Type="http://schemas.openxmlformats.org/officeDocument/2006/relationships/hyperlink" Target="mailto:Luciane.loutrenco@mma.gov.br" TargetMode="External"/><Relationship Id="rId5" Type="http://schemas.openxmlformats.org/officeDocument/2006/relationships/hyperlink" Target="mailto:dchristofidis@gmail.com" TargetMode="External"/><Relationship Id="rId6" Type="http://schemas.openxmlformats.org/officeDocument/2006/relationships/hyperlink" Target="mailto:dchristofidis@gmail.com" TargetMode="External"/><Relationship Id="rId7" Type="http://schemas.openxmlformats.org/officeDocument/2006/relationships/hyperlink" Target="mailto:dchristofidis@gmail.com" TargetMode="External"/><Relationship Id="rId8" Type="http://schemas.openxmlformats.org/officeDocument/2006/relationships/hyperlink" Target="mailto:emiranda@cidades.pmss.gov.br" TargetMode="External"/><Relationship Id="rId9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225360" y="6093000"/>
            <a:ext cx="869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novembro de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28600" y="2344680"/>
            <a:ext cx="86868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Programa de Desenvolvimento do Setor Á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7520" y="433440"/>
            <a:ext cx="3192480" cy="7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228600" y="1981080"/>
            <a:ext cx="86868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lementação do Plano Nacional de Recursos Hídr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genda da ANA em Águas Subterrâne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genda da ANA em Usos Sustentável de Água e Sol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ograma Produtor de Ág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tlas de Abastecimento de Água e sistema de acompanhamento e atualiz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ograma Nacional de Resíduos Sólidos Urba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ograma de Proteção aos Mananciais Urba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Exemplos de Ações Prevista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137016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mponente A – Recursos Híd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41720" y="6093000"/>
            <a:ext cx="34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* Mais exemplos podem ser vistos na Carta Consu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28600" y="1981080"/>
            <a:ext cx="86868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lano Nacional de Infraestrutura Hídr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ograma Desenvolvimento da Agricultura Irrig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ograma Drenagem Urbana e Controle de Erosão Marítima e Fluv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lementação da Política Nacional de Irrig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laboração de estudos de viabilidade técnica, econômico-social, financeira e ambient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laboração de planos de segurança de barrag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lanejamento de ações para prevenção e controle de eventos crític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41720" y="6093000"/>
            <a:ext cx="34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* Mais exemplos podem ser vistos na Carta Consu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137484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mponente B – Irrigação, Infraestrutura e Defesa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Exemplos de Ações Prevista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28600" y="1981080"/>
            <a:ext cx="868680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lementação da Política de Saneamento, nos termos da Lei nº 11.445/200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lantação do Sistema Nacional de Informações em Saneamento Básico – SINI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mpliação da Rede Nacional de Capacitação e Extensão Tecnológica em Saneamento Ambiental – ReCE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xpansão do Sistema Integrado de Gestão de Serviços de Saneamento – GS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lementação do Plano Nacional de Saneamento Básic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41720" y="6093000"/>
            <a:ext cx="34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* Mais exemplos podem ser vistos na Carta Consu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137160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mponente C – Sanea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Exemplos de Ações Prevista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28600" y="1981080"/>
            <a:ext cx="868680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ojeto de Racionalização do Uso da Água na Agricultu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ções de revitalização de bacias hidrográfi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lanejamento integrado e regulação em recursos hídricos e saneamento; em energia e navegação; eficiência energética nos serviços de ág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mpatibilização de hidrovias e aproveitamentos hidrelétric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mpatibilização e integração de procedimentos de licenciamento ambiental - reunindo estudos de aproveitamentos hidrelétricos, planos estratégicos de bacias hidrográficas, avaliação ambiental integr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1720" y="6093000"/>
            <a:ext cx="34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* Mais exemplos podem ser vistos na Carta Consu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Exemplos de Ações Prevista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137160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mponente D – Ações em Bacias Selecion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28600" y="198108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companhamento das ações, de modo a assegurar o cumprimento das metas, dos cronogramas e dos objetiv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inanciamento das atividades das unidades de gerencia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senvolvimento e implantação de sistema de monitoramento e avali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laboração e implementação do Plano de Comunic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137808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mponente E – Monitoramento e Avali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41720" y="6093000"/>
            <a:ext cx="34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* Mais exemplos podem ser vistos na Carta Consu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Exemplos de Ações Prevista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r" pos="86979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Valores </a:t>
            </a: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(US$ mil)</a:t>
            </a: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318960" y="1800360"/>
            <a:ext cx="8507520" cy="1774800"/>
            <a:chOff x="318960" y="1800360"/>
            <a:chExt cx="8507520" cy="1774800"/>
          </a:xfrm>
        </p:grpSpPr>
        <p:sp>
          <p:nvSpPr>
            <p:cNvPr id="618" name=""/>
            <p:cNvSpPr/>
            <p:nvPr/>
          </p:nvSpPr>
          <p:spPr>
            <a:xfrm>
              <a:off x="318960" y="1800360"/>
              <a:ext cx="416268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POR COMPONENT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481640" y="1800360"/>
              <a:ext cx="144756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Emprésti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929200" y="1800360"/>
              <a:ext cx="1447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Contraparti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377120" y="1800360"/>
              <a:ext cx="1447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To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18960" y="2022480"/>
              <a:ext cx="14796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Componente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98560" y="2022480"/>
              <a:ext cx="2444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043000" y="2022480"/>
              <a:ext cx="24386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Recursos Hídric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481640" y="2022480"/>
              <a:ext cx="14475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33.2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29200" y="2022480"/>
              <a:ext cx="1447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1.075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377120" y="2022480"/>
              <a:ext cx="1447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44.30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18960" y="2243160"/>
              <a:ext cx="147960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Componente B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98560" y="2243160"/>
              <a:ext cx="24444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043000" y="2243160"/>
              <a:ext cx="243864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Infraestrutura Hídric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481640" y="2243160"/>
              <a:ext cx="144756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20.8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929200" y="2243160"/>
              <a:ext cx="1447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6.95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377120" y="2243160"/>
              <a:ext cx="1447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27.80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18960" y="2465280"/>
              <a:ext cx="147960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Componente 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98560" y="2465280"/>
              <a:ext cx="24444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43000" y="2465280"/>
              <a:ext cx="243864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Saneam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481640" y="2465280"/>
              <a:ext cx="144756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24.37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929200" y="2465280"/>
              <a:ext cx="144792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8.125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377120" y="2465280"/>
              <a:ext cx="144792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32.50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18960" y="2687760"/>
              <a:ext cx="14796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Componente 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98560" y="2687760"/>
              <a:ext cx="2444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043000" y="2687760"/>
              <a:ext cx="24386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Ações Intersetor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481640" y="2687760"/>
              <a:ext cx="14475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5.7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929200" y="2687760"/>
              <a:ext cx="1447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5.25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377120" y="2687760"/>
              <a:ext cx="1447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21.00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18960" y="2908440"/>
              <a:ext cx="147960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Componente 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798560" y="2908440"/>
              <a:ext cx="24444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043000" y="2908440"/>
              <a:ext cx="243864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Monitoramento e Avaliaçã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481640" y="2908440"/>
              <a:ext cx="144756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3.37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929200" y="2908440"/>
              <a:ext cx="1447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.125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377120" y="2908440"/>
              <a:ext cx="1447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4.50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18960" y="3130560"/>
              <a:ext cx="41626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TOT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481640" y="3130560"/>
              <a:ext cx="144756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97.57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29200" y="3130560"/>
              <a:ext cx="1447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32.525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77120" y="3130560"/>
              <a:ext cx="1447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130.10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481640" y="3352680"/>
              <a:ext cx="14475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7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29200" y="3352680"/>
              <a:ext cx="1447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25%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377120" y="3352680"/>
              <a:ext cx="1447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00%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481640" y="1800360"/>
              <a:ext cx="1440" cy="1773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929200" y="1800360"/>
              <a:ext cx="1800" cy="1773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377120" y="1800360"/>
              <a:ext cx="1440" cy="1773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18960" y="2022480"/>
              <a:ext cx="8506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18960" y="2243160"/>
              <a:ext cx="8506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18960" y="2465280"/>
              <a:ext cx="85060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18960" y="2687760"/>
              <a:ext cx="8506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18960" y="2908440"/>
              <a:ext cx="8506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18960" y="3130560"/>
              <a:ext cx="8506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481640" y="3352680"/>
              <a:ext cx="43434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8960" y="1800360"/>
              <a:ext cx="1800" cy="1773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825040" y="1800360"/>
              <a:ext cx="1440" cy="1773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8960" y="1800360"/>
              <a:ext cx="8506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8960" y="3573360"/>
              <a:ext cx="85060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79280" y="4219560"/>
            <a:ext cx="8821800" cy="1541520"/>
            <a:chOff x="179280" y="4219560"/>
            <a:chExt cx="8821800" cy="1541520"/>
          </a:xfrm>
        </p:grpSpPr>
        <p:sp>
          <p:nvSpPr>
            <p:cNvPr id="674" name=""/>
            <p:cNvSpPr/>
            <p:nvPr/>
          </p:nvSpPr>
          <p:spPr>
            <a:xfrm>
              <a:off x="179280" y="4219560"/>
              <a:ext cx="432288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POR EXECUTO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502160" y="4219560"/>
              <a:ext cx="33703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COMPON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872480" y="4219560"/>
              <a:ext cx="112716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To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02160" y="4440240"/>
              <a:ext cx="1123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Setor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26080" y="4440240"/>
              <a:ext cx="1123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Intersetor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750000" y="4440240"/>
              <a:ext cx="1122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Monito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9280" y="4659480"/>
              <a:ext cx="267012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Ministério do Meio Ambiente -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9640" y="4659480"/>
              <a:ext cx="162252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Recursos Hídric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502160" y="4659480"/>
              <a:ext cx="112392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44.3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26080" y="4659480"/>
              <a:ext cx="112392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7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750000" y="4659480"/>
              <a:ext cx="112248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.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872480" y="4659480"/>
              <a:ext cx="11271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52.8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79280" y="4879800"/>
              <a:ext cx="26701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49400" y="4879800"/>
              <a:ext cx="201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52800" y="4879800"/>
              <a:ext cx="1449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Infraestrutu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502160" y="4879800"/>
              <a:ext cx="1123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27.8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626080" y="4879800"/>
              <a:ext cx="1123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7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750000" y="4879800"/>
              <a:ext cx="1122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.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872480" y="4879800"/>
              <a:ext cx="1127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36.3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79280" y="5099040"/>
              <a:ext cx="26701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Ministério das Cidad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849400" y="5099040"/>
              <a:ext cx="2016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052800" y="5099040"/>
              <a:ext cx="14493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Saneam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502160" y="5099040"/>
              <a:ext cx="1123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32.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626080" y="5099040"/>
              <a:ext cx="1123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7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750000" y="5099040"/>
              <a:ext cx="112248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.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872480" y="5099040"/>
              <a:ext cx="11271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41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9280" y="5319720"/>
              <a:ext cx="43228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TOT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502160" y="5319720"/>
              <a:ext cx="1123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104.6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626080" y="5319720"/>
              <a:ext cx="1123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21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750000" y="5319720"/>
              <a:ext cx="1122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4.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872480" y="5319720"/>
              <a:ext cx="1127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130.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502160" y="5538960"/>
              <a:ext cx="112392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80%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626080" y="5538960"/>
              <a:ext cx="112392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6%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750000" y="5538960"/>
              <a:ext cx="112248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3%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872480" y="5538960"/>
              <a:ext cx="11271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00%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502160" y="4219560"/>
              <a:ext cx="1440" cy="15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626080" y="4440240"/>
              <a:ext cx="1440" cy="1319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50000" y="4440240"/>
              <a:ext cx="1800" cy="1319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872480" y="4219560"/>
              <a:ext cx="1440" cy="15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02160" y="4440240"/>
              <a:ext cx="33703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79280" y="4659480"/>
              <a:ext cx="8820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79280" y="4879800"/>
              <a:ext cx="8820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79280" y="5099040"/>
              <a:ext cx="8820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79280" y="5319720"/>
              <a:ext cx="8820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02160" y="5538960"/>
              <a:ext cx="44974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9280" y="4219560"/>
              <a:ext cx="1800" cy="15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999640" y="4219560"/>
              <a:ext cx="1440" cy="15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9280" y="4219560"/>
              <a:ext cx="8820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79280" y="5759280"/>
              <a:ext cx="8820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66680" y="4873680"/>
            <a:ext cx="3060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inistério da Integração Nacional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228600" y="2933640"/>
            <a:ext cx="864720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idade de Preparação do Programa – UPP, instituída pela Resolução ANA n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555, de 11 de agosto de 2009, que tem como funções princip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352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centralizar o planeja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352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acompanhar a preparação das atividades dos componentes setoriais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352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coordenar a preparação das atividades do componente interseto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ignação dos membros representantes de cada Executor, por meio da Portaria ANA n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221, de 13 de outubro de 20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" y="1998720"/>
            <a:ext cx="8686800" cy="83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Carta-Consulta aprovada pela COFIEX na 83ª Reuni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ecomendação nº 1118, 13 de julh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Prepara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137808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ituação A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753080" y="533520"/>
            <a:ext cx="41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repara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Cronograma da Preparação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28600" y="2301840"/>
            <a:ext cx="868680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1000" indent="-2151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15100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zembro 2009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provação do Programa pelo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Banco Mund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51000" indent="-2151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15100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rço de 2010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provação do Programa pelo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Senado Fed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51000" indent="-2151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15100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bril de 2010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Lançamento dos Editai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 Sele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51000" indent="-2151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15100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Julho de 2010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Início das contrataçõe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as ações do primeiro ci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137808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Datas estimadas pela Equipe de Preparação – UPP e B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753080" y="533520"/>
            <a:ext cx="41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repara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Premissas para identificação de 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28600" y="1981080"/>
            <a:ext cx="86868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abrangência do INTERÁGUAS é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todo o território naciona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be a cada executor definir a concentração das suas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ações setoriai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cessidade de concentrar as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ações intersetoriai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priorizando áreas com insuficiência no planejamento e gest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136836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28600" y="505764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lnSpc>
                <a:spcPct val="100000"/>
              </a:lnSpc>
              <a:tabLst>
                <a:tab algn="l" pos="0"/>
                <a:tab algn="l" pos="5396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bs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ara a concentração das ações intersetoriais, foram selecionadas duas bacias para as ações setoriais prioritárias: São Francisco e Araguaia-Tocant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753080" y="533520"/>
            <a:ext cx="41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repara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Informações Complement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137304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NTERSETORIA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28600" y="1981080"/>
            <a:ext cx="86472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s ações intersetoriais envolvem mais de uma instituição ou ministér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uando se tratar de um ou mais dos ministérios executores do Programa, as ações serão coordenadas pelo executor que tiver maior afinidade com a ação pretendida, a critério do Comitê Ges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derão ser envolvidos, em casos específicos, outras instituições que não façam parte dos ministérios executores. Nesses casos, a ação intersetorial seria coordenada pelo ministério execu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753080" y="533520"/>
            <a:ext cx="41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repara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228600" y="1660680"/>
            <a:ext cx="868680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1.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s Usos Múltiplos da Águ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Justific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 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rincipais Executores e Instituições Potencialmente Envolvid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rranjo Institucional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xemplos de Ações Prev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Valores (em US$)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Sumár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28600" y="454176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2.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reparação do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ituação A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ronograma da Preparação – Estim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remissa para identificação das A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formações Complement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embros Integrantes da Unidade de Preparação do 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Informações Complement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0" y="137304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NTERSETORIA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28600" y="1981080"/>
            <a:ext cx="86472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m ações mais complexas, envolvendo várias instituições, poderá ser necessário estruturar um grupo de trabalho formal, como é o caso do planejamento conjunto de empreendimentos hidrelétricos e navegação fluv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jetos já em desenvolvimento pelos ministérios executores poderão derivar para ações a serem parcial ou totalmente apoiadas pelo Interágu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Secretaria Técnica do Programa, integrada pelos três ministérios executores, estará atenta para evitar que haja superposição de 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753080" y="533520"/>
            <a:ext cx="41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repara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Unidade de Prepara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228600" y="1619280"/>
            <a:ext cx="8688240" cy="4707000"/>
            <a:chOff x="228600" y="1619280"/>
            <a:chExt cx="8688240" cy="4707000"/>
          </a:xfrm>
        </p:grpSpPr>
        <p:sp>
          <p:nvSpPr>
            <p:cNvPr id="749" name=""/>
            <p:cNvSpPr/>
            <p:nvPr/>
          </p:nvSpPr>
          <p:spPr>
            <a:xfrm>
              <a:off x="228600" y="1619280"/>
              <a:ext cx="8686800" cy="41436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Membros integrantes da UP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28600" y="2033640"/>
              <a:ext cx="8686800" cy="414360"/>
            </a:xfrm>
            <a:prstGeom prst="rect">
              <a:avLst/>
            </a:prstGeom>
            <a:solidFill>
              <a:srgbClr val="d0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Pela Agência Nacional de Águ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28600" y="2448000"/>
              <a:ext cx="4343400" cy="687240"/>
            </a:xfrm>
            <a:prstGeom prst="rect">
              <a:avLst/>
            </a:prstGeom>
            <a:solidFill>
              <a:srgbClr val="e9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Ricardo Medeiros de Andra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 u="sng">
                  <a:solidFill>
                    <a:srgbClr val="ccccff"/>
                  </a:solidFill>
                  <a:uFillTx/>
                  <a:latin typeface="Calibri"/>
                  <a:hlinkClick r:id="rId1"/>
                </a:rPr>
                <a:t>ricardo.andrade@ana.gov.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572000" y="2448000"/>
              <a:ext cx="4343400" cy="687240"/>
            </a:xfrm>
            <a:prstGeom prst="rect">
              <a:avLst/>
            </a:prstGeom>
            <a:solidFill>
              <a:srgbClr val="e9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Cesar Eduardo Bertozzo Piment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 u="sng">
                  <a:solidFill>
                    <a:srgbClr val="ccccff"/>
                  </a:solidFill>
                  <a:uFillTx/>
                  <a:latin typeface="Calibri"/>
                  <a:hlinkClick r:id="rId2"/>
                </a:rPr>
                <a:t>cesar.pimentel@ana.gov.b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28600" y="3135240"/>
              <a:ext cx="8686800" cy="412920"/>
            </a:xfrm>
            <a:prstGeom prst="rect">
              <a:avLst/>
            </a:prstGeom>
            <a:solidFill>
              <a:srgbClr val="d0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Pela Secretaria de Recursos Hídricos e Ambiente Urbano do Ministério do Meio Amb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28600" y="3548160"/>
              <a:ext cx="4343400" cy="698400"/>
            </a:xfrm>
            <a:prstGeom prst="rect">
              <a:avLst/>
            </a:prstGeom>
            <a:solidFill>
              <a:srgbClr val="e9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Rodrigo Speziali Carvalh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 u="sng">
                  <a:solidFill>
                    <a:srgbClr val="ccccff"/>
                  </a:solidFill>
                  <a:uFillTx/>
                  <a:latin typeface="Calibri"/>
                  <a:hlinkClick r:id="rId3"/>
                </a:rPr>
                <a:t>rodrigo.carvalho@mma.gov.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572000" y="3548160"/>
              <a:ext cx="4343400" cy="698400"/>
            </a:xfrm>
            <a:prstGeom prst="rect">
              <a:avLst/>
            </a:prstGeom>
            <a:solidFill>
              <a:srgbClr val="e9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Luciane Lourenç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 u="sng">
                  <a:solidFill>
                    <a:srgbClr val="ccccff"/>
                  </a:solidFill>
                  <a:uFillTx/>
                  <a:latin typeface="Calibri"/>
                  <a:hlinkClick r:id="rId4"/>
                </a:rPr>
                <a:t>luciane.loutrenco@mma.gov.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28600" y="4246560"/>
              <a:ext cx="8686800" cy="412920"/>
            </a:xfrm>
            <a:prstGeom prst="rect">
              <a:avLst/>
            </a:prstGeom>
            <a:solidFill>
              <a:srgbClr val="d0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Pela Secretaria de Infraestrutura Hídrica do Ministério da Integração N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28600" y="4659480"/>
              <a:ext cx="4343400" cy="625320"/>
            </a:xfrm>
            <a:prstGeom prst="rect">
              <a:avLst/>
            </a:prstGeom>
            <a:solidFill>
              <a:srgbClr val="e9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Demetrios Christofid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 u="sng">
                  <a:solidFill>
                    <a:srgbClr val="ccccff"/>
                  </a:solidFill>
                  <a:uFillTx/>
                  <a:latin typeface="Calibri"/>
                  <a:hlinkClick r:id="rId5"/>
                </a:rPr>
                <a:t>dchristofidis@gmail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572000" y="4659480"/>
              <a:ext cx="4343400" cy="625320"/>
            </a:xfrm>
            <a:prstGeom prst="rect">
              <a:avLst/>
            </a:prstGeom>
            <a:solidFill>
              <a:srgbClr val="e9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Josimar Alves de Olivei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 u="sng">
                  <a:solidFill>
                    <a:srgbClr val="ccccff"/>
                  </a:solidFill>
                  <a:uFillTx/>
                  <a:latin typeface="Calibri"/>
                  <a:hlinkClick r:id="rId6"/>
                </a:rPr>
                <a:t>josimar.oliveira@integracao.gov.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28600" y="5284800"/>
              <a:ext cx="8686800" cy="414360"/>
            </a:xfrm>
            <a:prstGeom prst="rect">
              <a:avLst/>
            </a:prstGeom>
            <a:solidFill>
              <a:srgbClr val="d0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Pela Secretaria Nacional de Saneamento Ambiental do Ministério das Ci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28600" y="5699160"/>
              <a:ext cx="4343400" cy="625320"/>
            </a:xfrm>
            <a:prstGeom prst="rect">
              <a:avLst/>
            </a:prstGeom>
            <a:solidFill>
              <a:srgbClr val="e9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Sergio Antonio Gonçalv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 u="sng">
                  <a:solidFill>
                    <a:srgbClr val="ccccff"/>
                  </a:solidFill>
                  <a:uFillTx/>
                  <a:latin typeface="Calibri"/>
                  <a:hlinkClick r:id="rId7"/>
                </a:rPr>
                <a:t>sergio.goncalves@cidades.gov.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572000" y="5699160"/>
              <a:ext cx="4343400" cy="625320"/>
            </a:xfrm>
            <a:prstGeom prst="rect">
              <a:avLst/>
            </a:prstGeom>
            <a:solidFill>
              <a:srgbClr val="e9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Ernani Miran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 u="sng">
                  <a:solidFill>
                    <a:srgbClr val="ccccff"/>
                  </a:solidFill>
                  <a:uFillTx/>
                  <a:latin typeface="Calibri"/>
                  <a:hlinkClick r:id="rId8"/>
                </a:rPr>
                <a:t>ernani.miranda@cidades.gov.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572000" y="2448000"/>
              <a:ext cx="1440" cy="68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572000" y="3548160"/>
              <a:ext cx="1440" cy="69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4659480"/>
              <a:ext cx="1440" cy="62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572000" y="5699160"/>
              <a:ext cx="1440" cy="62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28600" y="2033640"/>
              <a:ext cx="8686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" y="2448000"/>
              <a:ext cx="8686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28600" y="3135240"/>
              <a:ext cx="8686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28600" y="3548160"/>
              <a:ext cx="8686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28600" y="4246560"/>
              <a:ext cx="8686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8600" y="4659480"/>
              <a:ext cx="8686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28600" y="5284800"/>
              <a:ext cx="8686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8600" y="5699160"/>
              <a:ext cx="8686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28600" y="1619280"/>
              <a:ext cx="1440" cy="470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915400" y="1619280"/>
              <a:ext cx="1440" cy="470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28600" y="1619280"/>
              <a:ext cx="8686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28600" y="6324480"/>
              <a:ext cx="8686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4753080" y="533520"/>
            <a:ext cx="41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repara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990720"/>
            <a:ext cx="9144000" cy="3999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287964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1f497d"/>
                </a:solidFill>
                <a:latin typeface="Calibri"/>
              </a:rPr>
              <a:t>Obrig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18960" y="3149640"/>
            <a:ext cx="8506080" cy="24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Os Usos Múltiplos da Á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3852360" y="5208480"/>
            <a:ext cx="1476000" cy="1354680"/>
            <a:chOff x="3852360" y="5208480"/>
            <a:chExt cx="1476000" cy="1354680"/>
          </a:xfrm>
        </p:grpSpPr>
        <p:sp>
          <p:nvSpPr>
            <p:cNvPr id="535" name=""/>
            <p:cNvSpPr/>
            <p:nvPr/>
          </p:nvSpPr>
          <p:spPr>
            <a:xfrm>
              <a:off x="3852360" y="6286680"/>
              <a:ext cx="14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Recreação e Turism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" descr=""/>
            <p:cNvPicPr/>
            <p:nvPr/>
          </p:nvPicPr>
          <p:blipFill>
            <a:blip r:embed="rId1"/>
            <a:stretch/>
          </p:blipFill>
          <p:spPr>
            <a:xfrm>
              <a:off x="3875040" y="5208480"/>
              <a:ext cx="1438200" cy="108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7" name=""/>
          <p:cNvGrpSpPr/>
          <p:nvPr/>
        </p:nvGrpSpPr>
        <p:grpSpPr>
          <a:xfrm>
            <a:off x="6607080" y="1800360"/>
            <a:ext cx="1739880" cy="1354320"/>
            <a:chOff x="6607080" y="1800360"/>
            <a:chExt cx="1739880" cy="1354320"/>
          </a:xfrm>
        </p:grpSpPr>
        <p:sp>
          <p:nvSpPr>
            <p:cNvPr id="538" name=""/>
            <p:cNvSpPr/>
            <p:nvPr/>
          </p:nvSpPr>
          <p:spPr>
            <a:xfrm>
              <a:off x="6607080" y="2878200"/>
              <a:ext cx="173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Abastecimento Indust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9" name="" descr=""/>
            <p:cNvPicPr/>
            <p:nvPr/>
          </p:nvPicPr>
          <p:blipFill>
            <a:blip r:embed="rId2"/>
            <a:stretch/>
          </p:blipFill>
          <p:spPr>
            <a:xfrm>
              <a:off x="6750000" y="1800360"/>
              <a:ext cx="1440000" cy="10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0" name=""/>
          <p:cNvGrpSpPr/>
          <p:nvPr/>
        </p:nvGrpSpPr>
        <p:grpSpPr>
          <a:xfrm>
            <a:off x="3822840" y="1800360"/>
            <a:ext cx="1447560" cy="1357560"/>
            <a:chOff x="3822840" y="1800360"/>
            <a:chExt cx="1447560" cy="1357560"/>
          </a:xfrm>
        </p:grpSpPr>
        <p:pic>
          <p:nvPicPr>
            <p:cNvPr id="541" name="" descr=""/>
            <p:cNvPicPr/>
            <p:nvPr/>
          </p:nvPicPr>
          <p:blipFill>
            <a:blip r:embed="rId3"/>
            <a:stretch/>
          </p:blipFill>
          <p:spPr>
            <a:xfrm>
              <a:off x="3822840" y="1800360"/>
              <a:ext cx="143964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3822840" y="28814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Irrigaçã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844920" y="1800360"/>
            <a:ext cx="1684800" cy="1357560"/>
            <a:chOff x="844920" y="1800360"/>
            <a:chExt cx="1684800" cy="1357560"/>
          </a:xfrm>
        </p:grpSpPr>
        <p:sp>
          <p:nvSpPr>
            <p:cNvPr id="544" name=""/>
            <p:cNvSpPr/>
            <p:nvPr/>
          </p:nvSpPr>
          <p:spPr>
            <a:xfrm>
              <a:off x="844920" y="2881440"/>
              <a:ext cx="168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Abastecimento Huma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5" name="" descr=""/>
            <p:cNvPicPr/>
            <p:nvPr/>
          </p:nvPicPr>
          <p:blipFill>
            <a:blip r:embed="rId4"/>
            <a:stretch/>
          </p:blipFill>
          <p:spPr>
            <a:xfrm>
              <a:off x="974880" y="1800360"/>
              <a:ext cx="1439640" cy="1079280"/>
            </a:xfrm>
            <a:prstGeom prst="rect">
              <a:avLst/>
            </a:prstGeom>
            <a:ln w="25560">
              <a:solidFill>
                <a:srgbClr val="4f81bd"/>
              </a:solidFill>
              <a:miter/>
            </a:ln>
          </p:spPr>
        </p:pic>
      </p:grpSp>
      <p:grpSp>
        <p:nvGrpSpPr>
          <p:cNvPr id="546" name=""/>
          <p:cNvGrpSpPr/>
          <p:nvPr/>
        </p:nvGrpSpPr>
        <p:grpSpPr>
          <a:xfrm>
            <a:off x="957240" y="3524400"/>
            <a:ext cx="1461960" cy="1354320"/>
            <a:chOff x="957240" y="3524400"/>
            <a:chExt cx="1461960" cy="1354320"/>
          </a:xfrm>
        </p:grpSpPr>
        <p:sp>
          <p:nvSpPr>
            <p:cNvPr id="547" name=""/>
            <p:cNvSpPr/>
            <p:nvPr/>
          </p:nvSpPr>
          <p:spPr>
            <a:xfrm>
              <a:off x="957240" y="4602240"/>
              <a:ext cx="146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Navegaçã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8" name="" descr=""/>
            <p:cNvPicPr/>
            <p:nvPr/>
          </p:nvPicPr>
          <p:blipFill>
            <a:blip r:embed="rId5"/>
            <a:stretch/>
          </p:blipFill>
          <p:spPr>
            <a:xfrm>
              <a:off x="971640" y="3524400"/>
              <a:ext cx="1439640" cy="10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9" name=""/>
          <p:cNvGrpSpPr/>
          <p:nvPr/>
        </p:nvGrpSpPr>
        <p:grpSpPr>
          <a:xfrm>
            <a:off x="1015920" y="5208480"/>
            <a:ext cx="1440000" cy="1360800"/>
            <a:chOff x="1015920" y="5208480"/>
            <a:chExt cx="1440000" cy="1360800"/>
          </a:xfrm>
        </p:grpSpPr>
        <p:sp>
          <p:nvSpPr>
            <p:cNvPr id="550" name=""/>
            <p:cNvSpPr/>
            <p:nvPr/>
          </p:nvSpPr>
          <p:spPr>
            <a:xfrm>
              <a:off x="1021680" y="6292800"/>
              <a:ext cx="1401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Pesca e Aquicul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1" name="" descr=""/>
            <p:cNvPicPr/>
            <p:nvPr/>
          </p:nvPicPr>
          <p:blipFill>
            <a:blip r:embed="rId6"/>
            <a:stretch/>
          </p:blipFill>
          <p:spPr>
            <a:xfrm>
              <a:off x="1015920" y="5208480"/>
              <a:ext cx="1440000" cy="1081080"/>
            </a:xfrm>
            <a:prstGeom prst="rect">
              <a:avLst/>
            </a:prstGeom>
            <a:ln w="25560">
              <a:solidFill>
                <a:srgbClr val="4f81bd"/>
              </a:solidFill>
              <a:miter/>
            </a:ln>
          </p:spPr>
        </p:pic>
      </p:grpSp>
      <p:grpSp>
        <p:nvGrpSpPr>
          <p:cNvPr id="552" name=""/>
          <p:cNvGrpSpPr/>
          <p:nvPr/>
        </p:nvGrpSpPr>
        <p:grpSpPr>
          <a:xfrm>
            <a:off x="6778800" y="5208480"/>
            <a:ext cx="1485360" cy="1352880"/>
            <a:chOff x="6778800" y="5208480"/>
            <a:chExt cx="1485360" cy="1352880"/>
          </a:xfrm>
        </p:grpSpPr>
        <p:pic>
          <p:nvPicPr>
            <p:cNvPr id="553" name="" descr=""/>
            <p:cNvPicPr/>
            <p:nvPr/>
          </p:nvPicPr>
          <p:blipFill>
            <a:blip r:embed="rId7">
              <a:lum contrast="12000"/>
            </a:blip>
            <a:stretch/>
          </p:blipFill>
          <p:spPr>
            <a:xfrm>
              <a:off x="6800760" y="5208480"/>
              <a:ext cx="144000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6778800" y="6284880"/>
              <a:ext cx="148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Diluição de Efluen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3822840" y="3524400"/>
            <a:ext cx="1447560" cy="1360440"/>
            <a:chOff x="3822840" y="3524400"/>
            <a:chExt cx="1447560" cy="1360440"/>
          </a:xfrm>
        </p:grpSpPr>
        <p:sp>
          <p:nvSpPr>
            <p:cNvPr id="556" name=""/>
            <p:cNvSpPr/>
            <p:nvPr/>
          </p:nvSpPr>
          <p:spPr>
            <a:xfrm>
              <a:off x="3822840" y="4608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Hidroeletric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7" name="" descr=""/>
            <p:cNvPicPr/>
            <p:nvPr/>
          </p:nvPicPr>
          <p:blipFill>
            <a:blip r:embed="rId8"/>
            <a:stretch/>
          </p:blipFill>
          <p:spPr>
            <a:xfrm>
              <a:off x="3822840" y="3524400"/>
              <a:ext cx="1439640" cy="10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8" name=""/>
          <p:cNvGrpSpPr/>
          <p:nvPr/>
        </p:nvGrpSpPr>
        <p:grpSpPr>
          <a:xfrm>
            <a:off x="6753240" y="3524400"/>
            <a:ext cx="1447920" cy="1359000"/>
            <a:chOff x="6753240" y="3524400"/>
            <a:chExt cx="1447920" cy="1359000"/>
          </a:xfrm>
        </p:grpSpPr>
        <p:sp>
          <p:nvSpPr>
            <p:cNvPr id="559" name=""/>
            <p:cNvSpPr/>
            <p:nvPr/>
          </p:nvSpPr>
          <p:spPr>
            <a:xfrm>
              <a:off x="6753240" y="46069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Controle de Che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0" name="" descr=""/>
            <p:cNvPicPr/>
            <p:nvPr/>
          </p:nvPicPr>
          <p:blipFill>
            <a:blip r:embed="rId9"/>
            <a:stretch/>
          </p:blipFill>
          <p:spPr>
            <a:xfrm>
              <a:off x="6753240" y="3524400"/>
              <a:ext cx="1440000" cy="107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228600" y="1557360"/>
            <a:ext cx="864720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cessidade de buscar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melhor articulação e coordenação de ações no setor água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usos múltiplos dos recursos e serviços associado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riar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ambiente integrador, com autonomia e flexibilidad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os setores participantes, tanto na proposição quanto na execução das 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ar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continuidade a programas setoriais exitoso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PMSS, PROÁGUA, etc.) e tratamento mais explícito de temas transversais prioritári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talecer iniciativas de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articulação intersetorial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á em curso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buscando maior eficiência na implementação e respostas mais ráp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Justific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28600" y="1565280"/>
            <a:ext cx="8647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grama a ser viabilizado por meio de um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acordo de empréstimo com o Banco Mundial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 cujo objetivo é dar suporte à implementação de políticas e planos nacionais no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etor água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 apoiando programas setoriais específicos e facilitando o tratamento integrado de temas transversais de intere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8960" y="4424400"/>
            <a:ext cx="85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8272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Valor do Empréstimo: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té US$ 95.575.000,00 (75%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18960" y="5629320"/>
            <a:ext cx="85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Valor total: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    até US$ 130.100.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18960" y="4876920"/>
            <a:ext cx="855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8272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trapartida: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     até US$ 32.525.000,00 (25%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     República Federativa do Bra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18960" y="6081840"/>
            <a:ext cx="85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azo de Execução: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    5 (cinco) 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79280" y="1335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tribuir para o fortalecimento da capacidade de planejamento e gestão no setor água, visa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39640" y="2160720"/>
            <a:ext cx="832500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450720"/>
                <a:tab algn="l" pos="1365120"/>
                <a:tab algn="l" pos="2279520"/>
                <a:tab algn="l" pos="3193920"/>
                <a:tab algn="l" pos="4108320"/>
                <a:tab algn="l" pos="5022720"/>
                <a:tab algn="l" pos="5937120"/>
                <a:tab algn="l" pos="6851520"/>
                <a:tab algn="l" pos="7765920"/>
                <a:tab algn="l" pos="8680320"/>
                <a:tab algn="l" pos="9594720"/>
                <a:tab algn="l" pos="1050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umentar a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eficiência no uso da água e na prestação de serviço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450720"/>
                <a:tab algn="l" pos="1365120"/>
                <a:tab algn="l" pos="2279520"/>
                <a:tab algn="l" pos="3193920"/>
                <a:tab algn="l" pos="4108320"/>
                <a:tab algn="l" pos="5022720"/>
                <a:tab algn="l" pos="5937120"/>
                <a:tab algn="l" pos="6851520"/>
                <a:tab algn="l" pos="7765920"/>
                <a:tab algn="l" pos="8680320"/>
                <a:tab algn="l" pos="9594720"/>
                <a:tab algn="l" pos="1050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umentar a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oferta sustentável de água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m quantidade e qualidade adequadas aos usos múltiplos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450720"/>
                <a:tab algn="l" pos="1365120"/>
                <a:tab algn="l" pos="2279520"/>
                <a:tab algn="l" pos="3193920"/>
                <a:tab algn="l" pos="4108320"/>
                <a:tab algn="l" pos="5022720"/>
                <a:tab algn="l" pos="5937120"/>
                <a:tab algn="l" pos="6851520"/>
                <a:tab algn="l" pos="7765920"/>
                <a:tab algn="l" pos="8680320"/>
                <a:tab algn="l" pos="9594720"/>
                <a:tab algn="l" pos="1050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elhorar a aplicação de recursos público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 setor água, com a consequente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edução de deseconomia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usadas por deficiências na articulação e na coordenação intersetoria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5580000"/>
            <a:ext cx="8820360" cy="11912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ata-se de um programa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exclusivamente</a:t>
            </a:r>
            <a:r>
              <a:rPr b="1" lang="en-GB" sz="24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oltado para o  </a:t>
            </a:r>
            <a:br>
              <a:rPr sz="2400"/>
            </a:b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lanejamento e gestão no setor água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ão possuindo recursos para ob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Principais Execu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28600" y="1582560"/>
            <a:ext cx="8647200" cy="23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inistério do Meio Amb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cretaria de Recursos Hídricos e Ambiente Urb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gência Nacional de Águ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inistério da Integração Na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cretaria de Infraestrutura Híd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cretaria Nacional de Defesa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inistério das C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cretaria Nacional de Saneamento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415296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Instituições Potencialmente Envolv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8600" y="4737240"/>
            <a:ext cx="86472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inistério de Minas e Energ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inistério dos Transpor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inistério da Agricultura, Pecuária e Abasteci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inistério do Desenvolvimento Agrá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inistério da Saúde - FUNA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Arranjo Institu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318960" y="1538280"/>
            <a:ext cx="6786720" cy="49770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105680" y="1851120"/>
            <a:ext cx="1628640" cy="834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Membros Consult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ME - MT - MA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00040" y="1619280"/>
            <a:ext cx="8325000" cy="1123920"/>
          </a:xfrm>
          <a:prstGeom prst="rect">
            <a:avLst/>
          </a:prstGeom>
          <a:noFill/>
          <a:ln w="1908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Compon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28600" y="1533600"/>
            <a:ext cx="8647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Componente A –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Componente B – Irrigação, Infraestrutura e Defesa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Componente C – Sane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Componente D – Ações em Bacias Selecion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Componente E – Monitoramento e Aval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71480" y="4511520"/>
            <a:ext cx="75106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da um dos três primeiros componentes desdobra-se em três subcomponen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ubcomponente Planejamento e Gest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ubcomponente Estudos e Proje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ubcomponente Fortalecimento Institu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ardo.andrade</dc:creator>
  <dc:description/>
  <dc:language>en-US</dc:language>
  <cp:lastModifiedBy>Ricardo</cp:lastModifiedBy>
  <cp:revision>0</cp:revision>
  <dc:subject/>
  <dc:title>Slide 1</dc:title>
</cp:coreProperties>
</file>